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duk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mverteil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(Insulin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3" idx="1"/>
          </p:cNvCxnSpPr>
          <p:nvPr/>
        </p:nvCxnSpPr>
        <p:spPr>
          <a:xfrm flipV="1">
            <a:off x="3313080" y="2054880"/>
            <a:ext cx="2708640" cy="202752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1" idx="3"/>
            <a:endCxn id="104" idx="1"/>
          </p:cNvCxnSpPr>
          <p:nvPr/>
        </p:nvCxnSpPr>
        <p:spPr>
          <a:xfrm>
            <a:off x="3313080" y="4082040"/>
            <a:ext cx="2708640" cy="20260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gly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7480" y="549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gly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96400" y="549360"/>
            <a:ext cx="31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glyk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9" idx="3"/>
            <a:endCxn id="11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 Nahrungskarenz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 Malassimil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3"/>
            <a:endCxn id="11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duk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lukogenoly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↓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ukoneogenese ↓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lykog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54720" y="54936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glyk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oduk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lukogenolyse ↓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lukoneogenese ↓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lykog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51480" y="549360"/>
            <a:ext cx="73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glyk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oduktion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Glukogenolyse ↓/Glukoneogenese ↓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lykog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insuffizienz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wergrass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lp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3"/>
            <a:endCxn id="12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935640" y="54936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glyk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6640" y="549360"/>
            <a:ext cx="43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glyk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Verbrauch ↑ &gt; </a:t>
            </a:r>
            <a:r>
              <a:rPr b="1" i="1" lang="de-DE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1" idx="3"/>
            <a:endCxn id="13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anges Stehenlasse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be vor dem Abzentrifugier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ukozytose in der Prob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olyzythämie in der Prob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6640" y="5493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glyk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Verbrauch ↑ &gt; </a:t>
            </a:r>
            <a:r>
              <a:rPr b="1" i="1" lang="de-DE" sz="1800" spc="-1" strike="noStrike">
                <a:solidFill>
                  <a:srgbClr val="333399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ämpf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p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eme Belas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Jagd, Ren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littenrenn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verteil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Insulin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6640" y="54936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glyk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Umverteilung (Insulin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3"/>
            <a:endCxn id="1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sulin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einer Überdosi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suli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08:19:36Z</dcterms:modified>
  <cp:revision>326</cp:revision>
  <dc:subject/>
  <dc:title>Vorstellung einer Neuheit</dc:title>
</cp:coreProperties>
</file>